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88B0-FF1D-44DD-9047-27764250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B07-24AF-4A3F-8C01-26C7160C2D2D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E98-96A4-4842-9806-04DEE9E5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B4F-072C-4991-A627-FD74EE0B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3437-C5A1-42D7-9510-0CC955B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4C8DE-5826-48C8-A098-1F8F6886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264C0-D882-4910-99DF-7213C0F2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5D7D4-9C19-4560-91BE-E367715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5CC94-9614-42E9-8A7C-55A9213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0773-23FA-482E-A69C-1259308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F4F40-8B07-4CA2-B8DC-BDC7F3B0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3D2B6-AE4C-4A86-A68E-1D37C005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E1535-2E04-4234-9B5D-91A1A413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00637-06C6-4773-ADCB-3517A773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D2B-4B95-4342-B7F1-9547CCBD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B58C-4A85-402C-8649-483F459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9AC05-19E0-41EB-9385-B23C81AF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6A53B-1760-45D6-802E-9905DCBD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D212F-D1A2-4EDE-BFB0-D522322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ED8C4-7D1C-4CC8-815B-78426474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018A9-5662-4F3B-B8D2-01D26EE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FCD7-4834-4DFE-8025-27ECE58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C64D4-6489-48E3-B8BB-4D29E81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4A06C-82E0-4468-B44A-BEFB388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F4A10-C634-46A6-9AA4-051F427E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C5B-CA48-42FC-A065-EB530380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BE301-9FE4-4698-87E2-CAEE0E3F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0B82C-27F4-4048-A9DB-2A82AF42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3B80-CEBE-4D29-A23A-ECD8124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0AD3A-A7F6-473E-A5A9-C4F7BF4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34237-2344-4FD1-A734-D1397662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8924B-DD4F-47FA-BB53-F082DEA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C577-066C-4B85-994F-741BC34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35262-B063-4469-A399-D18B0AB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226E-7138-4D55-9929-8BE4E4C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46FE8-2254-44D1-BED8-4929848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C5A-C1B7-409B-83EC-FCA06105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01DF7-C6DE-40E5-A9EE-9C4290E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148DA-090A-4656-BB35-7BE16266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69C69-B6BB-4F43-BCF8-ACA19900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C5FCA-7D20-4489-95E4-35E57F26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A28AA-03E9-45D3-B05D-DA4EF05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F1C40-2973-424E-AFD5-961C5A33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3B24B-1D91-4FA8-9A65-3DA5AD3F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57F3F-1B57-425E-B551-8871F32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9D016-9054-4585-A115-E7A7C5C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49FC1-A691-468B-ABC1-5E7853E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C04-01E9-4F7E-AF36-A6B678CF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4457-DD8F-408C-B148-C074A83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C293D-1D20-4358-B787-ABB5EB7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32191-C5D0-4D61-BB6D-CB0E2EA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7C5C4-AF61-4C8D-8836-E1DAF882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363F0-07B6-4F3F-9143-8A140257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C61C-65C9-409D-8462-5A30659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9DD5-D69D-4072-88EF-4E450E5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00A-88A6-4983-B5D7-B92C8CF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539B-3C8A-497D-829B-E88DD51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E8F-EDBC-4B60-80CF-6BA950F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408-55A0-4DE9-A0C1-6CC6D8C8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B21E-873C-4357-ABC7-D19466F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5D8C-6E31-45D2-BAF1-4D46CD8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5E8D-8FF4-401D-A4D0-8C65E83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FAD4-6500-43EF-8EC7-A169450F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163-A902-47F3-BA33-87759C93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B60E-123E-4DE9-AF96-3D1FDBE2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78D2-D7FD-4D7F-B26B-EADE9FC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F227-B6A0-4BAC-A1C0-F0599357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0CA1-F171-493F-A50C-8A346DB8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4C18-4F97-4E09-9450-97A0990F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8CB-706C-4570-B1AA-F37FDD9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F45B-33F2-470F-8313-4443882C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690C-64A4-4A67-BACC-C37A114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0151-6E88-4E9A-A0F7-BE34966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1200-BAD1-45FF-B1D3-114B11F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61E7-5F9B-43F6-891F-F789B4D3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18B1-9317-48B3-A2B6-491FC2AF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2C3D-E6D4-4652-807D-8653B19D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5599-9951-4746-ACA6-BA5BC5A2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8FFB-7285-4C17-B01E-EC1304CD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399B-AA4E-422D-A7B5-2C8E8F9A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A62-59C7-4665-B3F0-FB03B38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8292-C133-4C7C-98C5-0C4C327E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1CF0-50A7-4566-887F-959C5D2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D593-A227-45AA-9CC0-186DF84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3200-BC85-423C-A910-24BA83E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611F-B297-4AFF-A68B-7519D8C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6DD6-6988-4437-9C28-D7A8832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2BD9-A773-4531-B3BB-4D60345D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6DF6-064D-4D32-82FD-6A91A2C6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4794-1C46-4CD2-A6C1-86B8D745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2E94-4365-483A-963D-A8F2CB4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261-E77B-4BC3-8417-D9BDFD93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AA2D2-74EA-494B-982E-1295121D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A5F0A-E543-417E-AE7D-8E684EC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0506-16CD-4EF4-B75D-6E10E9C8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B143-22AF-412A-B7D6-BE61BE5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B35E-DE51-4762-B386-F9A7F6E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3DE9-29A3-4C59-81A4-23525326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2554-07CB-449A-9B2B-169BC22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C44C-826A-4B9A-9C11-24E9089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75C4-1C81-4050-A683-EADCBDB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66F6-A2C0-402B-95E2-8361143A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0B5-EA5D-4E06-AE3B-7336748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26B03-7DDE-40DD-914F-CB0BA3FF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0E9D-067D-4A96-A982-78AC205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852E6-497C-4653-87C6-58C9C09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F6D2-0865-4036-ADEF-FF0234DF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90B8B-7D55-4279-9E86-7D2955E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F201-F3FB-42EF-9307-38CCD3F5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59A1-AF5D-4C22-8DD7-471B5DF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E5E2-E23E-4355-B2CF-CE9D75E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8C1E-F33C-45C2-B5BF-C0E6709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A956A-CAD7-4B53-BBC0-E162F33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1DD-BD5B-4F67-9B8E-CE9EB01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0A0B-E061-44CF-82B5-56E25E5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C650E-79DB-413E-948D-881BFE6B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C051-48EB-4DD6-8956-608CA8E9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227F-EF3C-443F-8351-BAD1D67E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88DA-570E-4F66-B859-E31986B5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E3FBF-8D72-4C46-B9E4-481A1B54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A468-7E8F-4ACB-8211-C582B95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45225-B714-4734-9611-D0E0E7B1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446B-BA6E-4A48-8DB0-1172248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C421-D5AF-475B-8CC4-75350E8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F42-3852-4B6E-A4C1-EC20B66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A19A5-5275-42B3-8B8B-C526703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AD7E-BE40-451E-B2C5-9B71A8E0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1F8C-6CCB-46E8-9B4A-7175A551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FE6B-4755-4FCD-8500-D51AA120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1622F-7194-4900-B55C-35A886DE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33F8-DB35-4EEF-8664-A249C271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E3AA-5A28-4B26-A678-D92664B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580E-8EB1-466C-A543-DF9B823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78FC7-068D-495F-A967-7B7A8AE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390B-738F-4528-A54D-DC40663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7E9-769E-4BAC-8B7F-7AF8339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1B91B-46CC-440B-AEF2-9C89C728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BB11-495C-4857-A866-23996BE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4C96-B50A-4DB8-B172-F634D05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059D8-EE70-4624-854E-B60E777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5B9C-AB9F-485C-97E8-8792B2C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4C277-3C4D-4DDA-884C-36252A02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D63CE-DE86-4B37-9FBA-EB33727F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E1CEA-FD9F-4B4C-AA63-138BD594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DC36-B17F-406B-A60D-8DEBC606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27456-8B0F-41A6-A796-D07073A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81E9-7157-42FA-A91C-860AE5CE9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02D4-B7A5-448E-B8E4-216C243B22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7828-6C36-4B27-B134-BFE2C19255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2ED9-CBCB-4861-B3DF-327762E664E0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CB73-CF36-4908-BCD9-40F4ADE7F2A0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073-8EBC-42C5-BEA1-1FC91D37D4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87ED-E3A6-414D-B150-25321CF3D6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624A-B256-4CEE-9EC1-D4E52A6F0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F86E-BC4A-4363-AA3D-65E582A754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C085-FBC8-4E8D-9E8B-90102ECFE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9554-38EC-455E-BFE2-F7F2376019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B13-4CDF-4209-8AF0-4168EEC175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ashleigh.stone Stone</cp:lastModifiedBy>
  <cp:lastPrinted>2012-02-01T21:38:11Z</cp:lastPrinted>
  <dcterms:modified xsi:type="dcterms:W3CDTF">2012-02-01T21:38:25Z</dcterms:modified>
  <cp:revision>8</cp:revision>
  <dc:subject/>
  <dc:title>Area and Perimeter</dc:title>
</cp:coreProperties>
</file>